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7CB-AAAF-4F3C-8076-F80941BF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513-E337-4F2C-B609-C3F9FA0B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D77-0738-411D-817E-485950C8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21B-1A0E-4A02-B772-70FA3490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0AD-E42E-4A27-9DCE-C10F8097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632-7558-4A1D-A022-60AF159E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9B1-2CC8-4C5B-85E9-6BF48960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C2A-8A7A-4BF4-AD52-1B9144C8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E29-1D52-4FB2-A6E5-45430CDC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8AF-32E0-4094-B287-A5F374EE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E6A-85AA-4B3E-872B-3C47798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D4A-44B7-4A5A-AB8B-17AB3095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5297-24DC-47CB-BC11-6ACBA2287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2707569991"/>
          <p:cNvPicPr/>
          <p:nvPr/>
        </p:nvPicPr>
        <p:blipFill>
          <a:blip r:embed="rId1"/>
          <a:stretch/>
        </p:blipFill>
        <p:spPr>
          <a:xfrm>
            <a:off x="0" y="0"/>
            <a:ext cx="3800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4356000" y="1197000"/>
            <a:ext cx="309744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ira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995640" y="2637000"/>
            <a:ext cx="48974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astinina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1258796287_x_81bc1750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6408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492360" y="52920"/>
            <a:ext cx="565164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rque de Kira  Plastinina , c’est toujours brillant, argent, strass et de paillettes. Déc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e par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 ces éléments et une nouvelle collection - T-shirts et des robes, des pantalons et des chapeaux 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x_b8bfeb02"/>
          <p:cNvPicPr/>
          <p:nvPr/>
        </p:nvPicPr>
        <p:blipFill>
          <a:blip r:embed="rId2"/>
          <a:stretch/>
        </p:blipFill>
        <p:spPr>
          <a:xfrm rot="21371400">
            <a:off x="5219280" y="2204640"/>
            <a:ext cx="298764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3609_3_16"/>
          <p:cNvPicPr/>
          <p:nvPr/>
        </p:nvPicPr>
        <p:blipFill>
          <a:blip r:embed="rId1"/>
          <a:stretch/>
        </p:blipFill>
        <p:spPr>
          <a:xfrm>
            <a:off x="5292720" y="1341360"/>
            <a:ext cx="2624040" cy="388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3605_3_121"/>
          <p:cNvPicPr/>
          <p:nvPr/>
        </p:nvPicPr>
        <p:blipFill>
          <a:blip r:embed="rId2"/>
          <a:stretch/>
        </p:blipFill>
        <p:spPr>
          <a:xfrm>
            <a:off x="468360" y="1341360"/>
            <a:ext cx="2598840" cy="388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843280" y="189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ections de Kira Plastin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187280" y="5260320"/>
            <a:ext cx="6985080" cy="1557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est une collection plus fameuse.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La personnification de la nouvelle collection - papillon élégant, léger, rapide et très b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20502"/>
          <p:cNvPicPr/>
          <p:nvPr/>
        </p:nvPicPr>
        <p:blipFill>
          <a:blip r:embed="rId1"/>
          <a:stretch/>
        </p:blipFill>
        <p:spPr>
          <a:xfrm>
            <a:off x="395280" y="260280"/>
            <a:ext cx="3075120" cy="460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120500"/>
          <p:cNvPicPr/>
          <p:nvPr/>
        </p:nvPicPr>
        <p:blipFill>
          <a:blip r:embed="rId2"/>
          <a:stretch/>
        </p:blipFill>
        <p:spPr>
          <a:xfrm>
            <a:off x="5316480" y="333360"/>
            <a:ext cx="3019320" cy="4535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395280" y="5117400"/>
            <a:ext cx="8209080" cy="1557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Des choses de son marque sont  attirés par une attitude positive, les notes gaies et lumineuses.  Les nouveaux modèles ressemblent beaucoup plus sobres, élégants et féminins que d’ab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120501"/>
          <p:cNvPicPr/>
          <p:nvPr/>
        </p:nvPicPr>
        <p:blipFill>
          <a:blip r:embed="rId1"/>
          <a:stretch/>
        </p:blipFill>
        <p:spPr>
          <a:xfrm>
            <a:off x="4788000" y="404640"/>
            <a:ext cx="3978000" cy="597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20504"/>
          <p:cNvPicPr/>
          <p:nvPr/>
        </p:nvPicPr>
        <p:blipFill>
          <a:blip r:embed="rId2"/>
          <a:stretch/>
        </p:blipFill>
        <p:spPr>
          <a:xfrm>
            <a:off x="324000" y="404640"/>
            <a:ext cx="3987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20508"/>
          <p:cNvPicPr/>
          <p:nvPr/>
        </p:nvPicPr>
        <p:blipFill>
          <a:blip r:embed="rId1"/>
          <a:stretch/>
        </p:blipFill>
        <p:spPr>
          <a:xfrm rot="406800">
            <a:off x="5697360" y="3068280"/>
            <a:ext cx="2395800" cy="360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120507"/>
          <p:cNvPicPr/>
          <p:nvPr/>
        </p:nvPicPr>
        <p:blipFill>
          <a:blip r:embed="rId2"/>
          <a:stretch/>
        </p:blipFill>
        <p:spPr>
          <a:xfrm rot="21094200">
            <a:off x="826560" y="2637000"/>
            <a:ext cx="263844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684360" y="115560"/>
            <a:ext cx="7740360" cy="2745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Une nouvelle collection peut être divisé en quatre parties:</a:t>
            </a:r>
            <a:br>
              <a:rPr sz="2400"/>
            </a:b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- Classy - les robes romantiques, chemisiers, jupes et pantalons pour aller à l'école ou de l'institution;</a:t>
            </a:r>
            <a:br>
              <a:rPr sz="1800"/>
            </a:b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- Face Control - ce qui est pratique pour aller à une fête;</a:t>
            </a:r>
            <a:br>
              <a:rPr sz="1800"/>
            </a:b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- Punk-Rock Princess - stuff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udacie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 pour les filles qui apprécient l'humour;</a:t>
            </a:r>
            <a:br>
              <a:rPr sz="1800"/>
            </a:b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- Edition Limitée - trend élégant, ces choses s'emboîtent fille, tendant à ne pas être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omme tout le monde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120509"/>
          <p:cNvPicPr/>
          <p:nvPr/>
        </p:nvPicPr>
        <p:blipFill>
          <a:blip r:embed="rId1"/>
          <a:stretch/>
        </p:blipFill>
        <p:spPr>
          <a:xfrm>
            <a:off x="395280" y="333360"/>
            <a:ext cx="4025880" cy="604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120514"/>
          <p:cNvPicPr/>
          <p:nvPr/>
        </p:nvPicPr>
        <p:blipFill>
          <a:blip r:embed="rId2"/>
          <a:stretch/>
        </p:blipFill>
        <p:spPr>
          <a:xfrm>
            <a:off x="4788000" y="333360"/>
            <a:ext cx="40258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coll_spr-sum2010_2"/>
          <p:cNvPicPr/>
          <p:nvPr/>
        </p:nvPicPr>
        <p:blipFill>
          <a:blip r:embed="rId1"/>
          <a:stretch/>
        </p:blipFill>
        <p:spPr>
          <a:xfrm>
            <a:off x="1042920" y="333360"/>
            <a:ext cx="7259760" cy="5489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763640" y="5733720"/>
            <a:ext cx="685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Kira choisit elle-m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ême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le ton et l'humeur de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ses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collections.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IMG_98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967280" y="333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Merci pour votre attention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kinopoisk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755640" y="765000"/>
            <a:ext cx="33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Kira Plastinina est couturi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è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e d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é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butante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russe, mais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elle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est déjà connu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e.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1280" y="3500280"/>
            <a:ext cx="338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Elle est l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a fille du businessman russe  Sergey Plastinin, un grand actionnaire de compagnie «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Vim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Bil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Dan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33048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Les premiers magasins sous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une marque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«Kira Plastinina» se sont ouverts à Moscou au début de 2007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218955969_f52490f84339197b42e01d598fdb10be"/>
          <p:cNvPicPr/>
          <p:nvPr/>
        </p:nvPicPr>
        <p:blipFill>
          <a:blip r:embed="rId1"/>
          <a:stretch/>
        </p:blipFill>
        <p:spPr>
          <a:xfrm>
            <a:off x="4284720" y="260280"/>
            <a:ext cx="4735440" cy="6337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24000" y="263700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Le magasin Kira Plastinina à New York était ouvert en 2008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28760"/>
            <a:ext cx="431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Toutes les collections de la marque "Kira Plastinina" est mélange des styles divers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orageux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46220"/>
          <p:cNvPicPr/>
          <p:nvPr/>
        </p:nvPicPr>
        <p:blipFill>
          <a:blip r:embed="rId1"/>
          <a:stretch/>
        </p:blipFill>
        <p:spPr>
          <a:xfrm>
            <a:off x="4427640" y="404640"/>
            <a:ext cx="3979800" cy="5977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213000"/>
            <a:ext cx="40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Kira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appell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on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style - art-glamour-sportlive-casual. Les vêtements d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Plastina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sont destinés aux jeunes filles actives et à la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79280" y="1137600"/>
            <a:ext cx="295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ff"/>
                </a:solidFill>
                <a:latin typeface="Arial"/>
              </a:rPr>
              <a:t>Selon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s</a:t>
            </a:r>
            <a:r>
              <a:rPr b="1" lang="ru-RU" sz="2800" spc="-1" strike="noStrike">
                <a:solidFill>
                  <a:srgbClr val="6666ff"/>
                </a:solidFill>
                <a:latin typeface="Arial"/>
              </a:rPr>
              <a:t>a connaissance personnelle,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Kira</a:t>
            </a:r>
            <a:r>
              <a:rPr b="1" lang="ru-RU" sz="2800" spc="-1" strike="noStrike">
                <a:solidFill>
                  <a:srgbClr val="6666ff"/>
                </a:solidFill>
                <a:latin typeface="Arial"/>
              </a:rPr>
              <a:t> crée les vêtements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pour les jeunes</a:t>
            </a:r>
            <a:r>
              <a:rPr b="1" lang="ru-RU" sz="2800" spc="-1" strike="noStrike">
                <a:solidFill>
                  <a:srgbClr val="6666ff"/>
                </a:solidFill>
                <a:latin typeface="Arial"/>
              </a:rPr>
              <a:t>, qui voudrait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les </a:t>
            </a:r>
            <a:r>
              <a:rPr b="1" lang="ru-RU" sz="2800" spc="-1" strike="noStrike">
                <a:solidFill>
                  <a:srgbClr val="6666ff"/>
                </a:solidFill>
                <a:latin typeface="Arial"/>
              </a:rPr>
              <a:t>po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124285805"/>
          <p:cNvPicPr/>
          <p:nvPr/>
        </p:nvPicPr>
        <p:blipFill>
          <a:blip r:embed="rId1"/>
          <a:stretch/>
        </p:blipFill>
        <p:spPr>
          <a:xfrm>
            <a:off x="316692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_10188373-web"/>
          <p:cNvPicPr/>
          <p:nvPr/>
        </p:nvPicPr>
        <p:blipFill>
          <a:blip r:embed="rId1"/>
          <a:stretch/>
        </p:blipFill>
        <p:spPr>
          <a:xfrm rot="21190200">
            <a:off x="480960" y="799920"/>
            <a:ext cx="3906720" cy="568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6c88806396c1"/>
          <p:cNvPicPr/>
          <p:nvPr/>
        </p:nvPicPr>
        <p:blipFill>
          <a:blip r:embed="rId2"/>
          <a:stretch/>
        </p:blipFill>
        <p:spPr>
          <a:xfrm rot="474000">
            <a:off x="4500720" y="764640"/>
            <a:ext cx="3911400" cy="5689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324000" y="2588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Ses vêtements sont gais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et  lumineux pour les filles à la mo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�_�_������[1]"/>
          <p:cNvPicPr/>
          <p:nvPr/>
        </p:nvPicPr>
        <p:blipFill>
          <a:blip r:embed="rId1"/>
          <a:stretch/>
        </p:blipFill>
        <p:spPr>
          <a:xfrm>
            <a:off x="2987640" y="2863800"/>
            <a:ext cx="6156360" cy="399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0_1027f_1c0ac6ee_L"/>
          <p:cNvPicPr/>
          <p:nvPr/>
        </p:nvPicPr>
        <p:blipFill>
          <a:blip r:embed="rId2"/>
          <a:stretch/>
        </p:blipFill>
        <p:spPr>
          <a:xfrm>
            <a:off x="0" y="0"/>
            <a:ext cx="5724360" cy="3811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 flipV="1" rot="10800000">
            <a:off x="5940000" y="21852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lle crée des vêtements de fantaisie et des vêtements pour chaque jo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8576605"/>
          <p:cNvPicPr/>
          <p:nvPr/>
        </p:nvPicPr>
        <p:blipFill>
          <a:blip r:embed="rId1"/>
          <a:stretch/>
        </p:blipFill>
        <p:spPr>
          <a:xfrm rot="552600">
            <a:off x="4538520" y="1528920"/>
            <a:ext cx="3583080" cy="496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x_3e896d87"/>
          <p:cNvPicPr/>
          <p:nvPr/>
        </p:nvPicPr>
        <p:blipFill>
          <a:blip r:embed="rId2"/>
          <a:stretch/>
        </p:blipFill>
        <p:spPr>
          <a:xfrm rot="21121200">
            <a:off x="539640" y="1988640"/>
            <a:ext cx="3164040" cy="4392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324000" y="273960"/>
            <a:ext cx="7704000" cy="1557000"/>
          </a:xfrm>
          <a:prstGeom prst="rect">
            <a:avLst/>
          </a:prstGeom>
          <a:solidFill>
            <a:srgbClr val="f2effb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Ce sont des 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robes originales, des jupes coupé atypique,  des T-shirts lumineux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  ornés de strass nombreux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. Ce sont les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vêtements</a:t>
            </a: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pour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tous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les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je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u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 qui ont l'air original et intéres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x_5f6cfbb3"/>
          <p:cNvPicPr/>
          <p:nvPr/>
        </p:nvPicPr>
        <p:blipFill>
          <a:blip r:embed="rId1"/>
          <a:stretch/>
        </p:blipFill>
        <p:spPr>
          <a:xfrm>
            <a:off x="179280" y="0"/>
            <a:ext cx="4025880" cy="5589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395280" y="5087160"/>
            <a:ext cx="6840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la robe de Kira Plastinina, 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ous pouvez d’aller au collège et à la discothèque, à l'exposition et à visiter, un voyage à une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1238326237_577x800px13"/>
          <p:cNvPicPr/>
          <p:nvPr/>
        </p:nvPicPr>
        <p:blipFill>
          <a:blip r:embed="rId2"/>
          <a:stretch/>
        </p:blipFill>
        <p:spPr>
          <a:xfrm rot="21378600">
            <a:off x="5526000" y="312840"/>
            <a:ext cx="2954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2:18:17Z</dcterms:created>
  <dc:creator>ЦБ</dc:creator>
  <dc:description/>
  <dc:language>en-US</dc:language>
  <cp:lastModifiedBy>User_08</cp:lastModifiedBy>
  <dcterms:modified xsi:type="dcterms:W3CDTF">2012-04-12T07:29:49Z</dcterms:modified>
  <cp:revision>6</cp:revision>
  <dc:subject/>
  <dc:title>Слайд 1</dc:title>
</cp:coreProperties>
</file>